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2360-36CD-412A-9CC8-BC397A51B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0CE5-0D17-4960-8A56-199C6F16B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8DA2-B6CE-407F-B926-98CE82ACC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CF59-52E9-4F6D-ACEA-F1717A6DD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7C5B-05A9-4627-9571-89269F12C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8BEB-58FF-44B5-973E-AAD8FCF88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1AB1-1AC6-4C93-96A6-784A1284D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22FC-D26A-4B59-AE36-DF3D68D2B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BA25-1F04-4C3D-B80C-5B56079FB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72AF-5944-460B-8979-8BA8ED413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C34D-06DC-4739-8A62-781F8DBBB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68D7-4847-4B2D-B744-288D62E3F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DBDE7-30F0-4804-A8DC-4FEFC5A3B3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3027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78168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oper Black"/>
              </a:rPr>
              <a:t>A website that can be collaboratively ed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590920" y="2133720"/>
            <a:ext cx="373356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Wik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ransition spd="slow" advTm="10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3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00"/>
            </a:gs>
            <a:gs pos="50000">
              <a:srgbClr val="cccc00"/>
            </a:gs>
            <a:gs pos="100000">
              <a:srgbClr val="5e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Cooper Black"/>
              </a:rPr>
              <a:t>Collaborate? Why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055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00"/>
                </a:solidFill>
                <a:latin typeface="Comic Sans MS"/>
              </a:rPr>
              <a:t>Team work, makes the dream wor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3200400"/>
            <a:ext cx="83055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tudents in K12 do projects and labs in groups or team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ey need to work in team and present as a tea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ey need a canvas to shar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circl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8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8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8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1b0a"/>
            </a:gs>
            <a:gs pos="50000">
              <a:srgbClr val="ffb343"/>
            </a:gs>
            <a:gs pos="100000">
              <a:srgbClr val="271b0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914400" y="213372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It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Eas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Quic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And Free tool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295280" y="533520"/>
            <a:ext cx="647712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3300"/>
                  </a:solidFill>
                  <a:miter/>
                </a:ln>
                <a:solidFill>
                  <a:srgbClr val="ffdaa3"/>
                </a:solidFill>
                <a:effectLst>
                  <a:outerShdw dist="107932" dir="13500000" blurRad="0" rotWithShape="0">
                    <a:srgbClr val="808080">
                      <a:alpha val="50000"/>
                    </a:srgbClr>
                  </a:outerShdw>
                </a:effectLst>
                <a:latin typeface="Arial Black"/>
              </a:rPr>
              <a:t>Why Wiki??</a:t>
            </a:r>
            <a:endParaRPr b="0" lang="en-US" sz="1800" spc="1" strike="noStrike">
              <a:ln w="38160">
                <a:solidFill>
                  <a:srgbClr val="ff3300"/>
                </a:solidFill>
                <a:miter/>
              </a:ln>
              <a:solidFill>
                <a:srgbClr val="ffdaa3"/>
              </a:solidFill>
              <a:effectLst>
                <a:outerShdw dist="107932" dir="13500000" blurRad="0" rotWithShape="0">
                  <a:srgbClr val="80808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914400" y="233208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Arial"/>
              </a:rPr>
              <a:t>A computer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Arial"/>
              </a:rPr>
              <a:t>Internet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Arial"/>
              </a:rPr>
              <a:t>and definitely a user or a team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14400" y="533520"/>
            <a:ext cx="716292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333399"/>
                  </a:solidFill>
                  <a:miter/>
                </a:ln>
                <a:solidFill>
                  <a:srgbClr val="ffdaa3"/>
                </a:solidFill>
                <a:effectLst>
                  <a:outerShdw dist="107932" dir="13500000" blurRad="0" rotWithShape="0">
                    <a:srgbClr val="808080">
                      <a:alpha val="50000"/>
                    </a:srgbClr>
                  </a:outerShdw>
                </a:effectLst>
                <a:latin typeface="Arial Black"/>
              </a:rPr>
              <a:t>What does it need?</a:t>
            </a:r>
            <a:endParaRPr b="0" lang="en-US" sz="1800" spc="1" strike="noStrike">
              <a:ln w="38160">
                <a:solidFill>
                  <a:srgbClr val="333399"/>
                </a:solidFill>
                <a:miter/>
              </a:ln>
              <a:solidFill>
                <a:srgbClr val="ffdaa3"/>
              </a:solidFill>
              <a:effectLst>
                <a:outerShdw dist="107932" dir="13500000" blurRad="0" rotWithShape="0">
                  <a:srgbClr val="80808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10000">
    <p:fad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5T02:46:16Z</dcterms:created>
  <dc:creator>ABC</dc:creator>
  <dc:description/>
  <dc:language>en-US</dc:language>
  <cp:lastModifiedBy>ABC</cp:lastModifiedBy>
  <dcterms:modified xsi:type="dcterms:W3CDTF">2011-10-05T03:32:37Z</dcterms:modified>
  <cp:revision>9</cp:revision>
  <dc:subject/>
  <dc:title>Slide 1</dc:title>
</cp:coreProperties>
</file>